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631-8A0B-447E-84E8-FAD6BB3E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793-C566-4C9B-8054-116DC2C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8F7-7413-430A-A113-C4835D1B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247-60E4-4A98-9275-82C2647F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BF2-43BE-4132-801C-6BC74842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7A9-FECB-4F3A-AC56-320AC7A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F2B3-00E4-4203-9E94-7011E43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955-7915-47FD-876D-75260A61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1AC7-D23A-496C-A05F-9E42D06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460-1FB5-4443-B9C3-578DFAF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52B7-E406-471D-8833-F0A1CB8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AC6-948E-4031-959E-204DB51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62B6-72C5-4D6A-B9D5-62CA258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19F0-7294-4BDF-AF25-D5DE2440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8CBA-72DC-492B-AA84-0862FD1B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D46-5E81-4EFB-B87E-8337D66D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9E85-324B-4C06-9055-6C694B39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069-7408-4E8C-8DC6-8D024EA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788-9B37-4A40-87BE-01E4A85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B0E-95D9-4F01-B13E-98F51CBB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949-AEAA-4DA7-A20C-A9A7C61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C82-DA59-436E-9143-EDE52F5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A4A-9239-44CA-B8C0-5D0C4E6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6BE-CE11-4519-BAC4-15AD892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CED4-27C9-4530-9334-7A013F0CBF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5167800" y="108000"/>
            <a:ext cx="2243520" cy="2649960"/>
            <a:chOff x="5167800" y="108000"/>
            <a:chExt cx="2243520" cy="2649960"/>
          </a:xfrm>
        </p:grpSpPr>
        <p:grpSp>
          <p:nvGrpSpPr>
            <p:cNvPr id="39" name=""/>
            <p:cNvGrpSpPr/>
            <p:nvPr/>
          </p:nvGrpSpPr>
          <p:grpSpPr>
            <a:xfrm>
              <a:off x="5167800" y="108000"/>
              <a:ext cx="2243520" cy="2649960"/>
              <a:chOff x="5167800" y="108000"/>
              <a:chExt cx="2243520" cy="26499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5167800" y="108000"/>
                <a:ext cx="2243520" cy="2395440"/>
                <a:chOff x="5167800" y="108000"/>
                <a:chExt cx="2243520" cy="2395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5842440" y="207360"/>
                  <a:ext cx="32364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5886720" y="903240"/>
                  <a:ext cx="569160" cy="5212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5551560" y="798480"/>
                  <a:ext cx="1068120" cy="10692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5487840" y="581040"/>
                  <a:ext cx="160344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6229440" y="1952640"/>
                  <a:ext cx="35712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6171480" y="177048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5852520" y="511560"/>
                  <a:ext cx="38268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5809680" y="362880"/>
                  <a:ext cx="37836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8520" y="2014200"/>
            <a:ext cx="4800600" cy="30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D40A-FC28-4D86-BFBD-D841C12E87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93" name="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7" name="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5684400" y="5833440"/>
            <a:ext cx="1062720" cy="1393920"/>
            <a:chOff x="5684400" y="5833440"/>
            <a:chExt cx="1062720" cy="1393920"/>
          </a:xfrm>
        </p:grpSpPr>
        <p:sp>
          <p:nvSpPr>
            <p:cNvPr id="103" name="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5759640" y="6286680"/>
              <a:ext cx="88128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684400" y="5833440"/>
              <a:ext cx="1062720" cy="1393920"/>
              <a:chOff x="5684400" y="5833440"/>
              <a:chExt cx="1062720" cy="13939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5509440" y="6345000"/>
                <a:ext cx="1412280" cy="3704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5808240" y="6424200"/>
                <a:ext cx="999720" cy="209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6357240" y="6135840"/>
                <a:ext cx="132840" cy="1404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6026040" y="6396480"/>
                <a:ext cx="408600" cy="1234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457200"/>
            <a:ext cx="51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ding &amp; Re-Barco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inry R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57440" y="2990880"/>
            <a:ext cx="2829240" cy="3771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2828880" cy="189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2895840" cy="1873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175248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l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724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w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2362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w video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7:26:50Z</dcterms:created>
  <dc:creator>debbiem11</dc:creator>
  <dc:description/>
  <dc:language>en-US</dc:language>
  <cp:lastModifiedBy>debbiem11</cp:lastModifiedBy>
  <dcterms:modified xsi:type="dcterms:W3CDTF">2010-11-18T18:18:44Z</dcterms:modified>
  <cp:revision>3</cp:revision>
  <dc:subject/>
  <dc:title>Slide 1</dc:title>
</cp:coreProperties>
</file>